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545-0DCF-4992-ACCF-39D01DBD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715-1EE1-480D-A2A6-381AD3D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0CB-5F42-40E8-8B68-F0715AF6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9F8-CFDC-43D9-B730-FDA27408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22C-501C-4EA2-961D-8F9F3BFE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0730-9777-4180-AA07-1EEFF4DE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062F-C349-4AD3-834C-8994BBFA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7BE-4E25-4EAF-8A7D-AE9642B5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C79E-4016-4A2E-9E6F-4C9EDB4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B0FC-6483-4599-8D14-0CA3779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4B1E-EFB8-4990-9773-3103DE6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909-97F2-47F5-867A-2E248B9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66F-37AD-4C99-96AD-4E949C0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CB45-970D-4A62-B065-CD99A78C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5FCC-C6BA-4FDD-8BE8-B5B44D9B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CF8-74B5-4080-9DCA-676151BD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A52-BCEE-4C0F-B706-6E69778C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6A7-E8B5-4E3A-8DA1-CB8D76C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CAD-5AB1-47F1-AB30-883F429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CFF-C5FD-4A7E-9D62-6C9F719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071-E72A-47CB-9B9A-6F36B2D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AE2-C248-4360-AB25-7068D1B8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FD3-7708-4A24-A66C-284DB50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6F6-3CAF-4CBD-862F-CE3A4FE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ED5-F7DE-47FE-98C4-1696B51B44D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C2B-81C5-45BF-B7C1-E84EDB91213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rter 8, Lesson 2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ges 14-21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tories From Dani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in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oup of captives – Dan.1:3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not to be defiled – 1:8-2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and Nebuchadnezzar’s Dream – ch. 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buchadnezzar’s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423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ajor World Empi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s &amp; Persi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“the kingdom of God”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104616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62720" y="1752480"/>
            <a:ext cx="33210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576440"/>
            <a:ext cx="8077320" cy="524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62320" y="4191120"/>
            <a:ext cx="5331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612800"/>
            <a:ext cx="8077320" cy="524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52880" y="6324480"/>
            <a:ext cx="45720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42667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42667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0 BC – Josiah begins his reign at 8 yrs 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Kings 22:1;  2 Chron. 34:1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6 –Jeremiah begins prophetic work (Jer.1: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5 –Babylon gains independence from Assyri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21 – Josiah’s 1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year – Daniel is bor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nses land of idolat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airs the temp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of the law foun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12 – Nineveh fall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9 BC – Egyptians &amp; Assyrians join forces against Babyl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osi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lain – 2 Kgs.23:29-30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2 Chron.35:20-27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um (Jehoahaz) is made k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remiah laments death of Josia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 Chron.35:25; Jer.22:10-1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3 Months, Necho deposed Shallum and took him to Egyp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9718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ia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llum (Jehoahaz) – 3 month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akim (Jehoiakim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ced on the throne by Necho of Egyp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 Kings 23:34-37; 2 Chron.36:4-5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9 BC – Jeremiah laments Jehoiakim’s coming death – Jer.22:18-1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hoiakim becomes subject to Nebuchadnezzar of Babylon (2 Kgs.24: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d’s Prophets are hated – Jer.2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563840"/>
            <a:ext cx="8153280" cy="5294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ansion of Babylonian Emp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5 BC – Fourth year of Jehoiaki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 defeated Egyptians at Carchemis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warned Judeans of a 70-year captivity  - Jer.25:1-1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uch read Jeremiah’s scroll to Jehoiaki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iakim cut up the scroll – Jer.3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Period of Cap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5 BC – Fourth year of Jehoiaki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 invaded Jerusalem and took what they wanted including Temple item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, Shadrack, Meshach, and Abednego were among the first wave of captives – Dan.1:1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were trained in courtly du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ave occasion for Daniel to interpret Nebuchadnezzar’s dream – Dan. 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20:34:43Z</dcterms:created>
  <dc:creator>Terry W. Benton</dc:creator>
  <dc:description/>
  <dc:language>en-US</dc:language>
  <cp:lastModifiedBy>Frank D Vines</cp:lastModifiedBy>
  <dcterms:modified xsi:type="dcterms:W3CDTF">2007-02-01T15:54:13Z</dcterms:modified>
  <cp:revision>4</cp:revision>
  <dc:subject/>
  <dc:title>A Remnant Shall Return</dc:title>
</cp:coreProperties>
</file>